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BD0A-1446-431C-849D-DA129EDDF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31E9-18D6-4636-A2F3-E2194776E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A66-1550-4BFC-94B8-088D8D96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4E7-47E8-473C-AE19-1EBEE761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59B-03EE-4594-97A7-0D525DFF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BA5-335A-44E2-B643-DE1CEAA2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B22B-C338-4B28-AAC4-F9388956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CFEF-D32C-4A33-925A-EA946FF5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C548-57C2-4A5A-9232-C5C2D93C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C92F-8DAC-46DF-9F52-4D5510C0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2736-1CCB-4953-8151-A037ACFC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8855-DA29-474E-A321-1F54FA6C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2A43-96F5-40E4-A8E3-5C542E31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017-7D14-4A77-B99F-8D22504E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E67A-6735-4819-B209-6338A65B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6D1F-5486-4DB5-BD4D-E48D0AEB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C173-F1D1-4CAC-828A-FA5EDF5B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CF61-065C-46FE-B0C9-F8082F45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4E96-3AC7-48BC-ADA4-F796C684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D57-93AA-4AFB-BB5F-689B765A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AD8-689D-49DC-8DE5-3FD8C62B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FA8-3B86-4024-A33D-88EE4C9A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C69-086F-4506-920B-E9B3B074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E5A-07A5-4D3A-BDAA-51B5E585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3D5-25BB-465C-AB00-73C9DC1A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C39-7FCA-4428-BE1C-C47495BE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3FF8-6E21-4220-B5BA-DAAC8D2F86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686C-A4BB-4323-95FD-3AE252CD28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ФИЗИЧЕСКОЙ КУЛЬТУРЫ И СПОРТА КРАСНОДАРСКОГО КРАЯ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КРАСНОДАРСКОГО КРАЯ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ГБУ КК «ЦЕНТР РАЗВИТИЯ ЛЕГКОЙ АТЛЕТИКИ»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바탕"/>
              </a:rPr>
              <a:t>Второй этап VII летней Спартакиады учащихся России  2015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바탕"/>
              </a:rPr>
              <a:t>легкая атлетика (ЮФО, С-КФ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3-04.07.2015 г.                                                   г. Красно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Второй этап VII летней Спартакиады учащихся России  2015 года </a:t>
            </a: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легкая атлетика (ЮФО, С-КФО)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03-04.07.2015 г.                                                                                 г. Краснодар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1773360"/>
          <a:ext cx="8064360" cy="4189320"/>
        </p:xfrm>
        <a:graphic>
          <a:graphicData uri="http://schemas.openxmlformats.org/drawingml/2006/table">
            <a:tbl>
              <a:tblPr/>
              <a:tblGrid>
                <a:gridCol w="2439720"/>
                <a:gridCol w="2352960"/>
                <a:gridCol w="1141200"/>
                <a:gridCol w="2130480"/>
              </a:tblGrid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ия Максим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лина Шемяк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Коломи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дим 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горизонт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онид Воло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вертик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Аксе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ое обеспеч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дмила Кузнец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лёгкая атлетика Федерация</cp:lastModifiedBy>
  <cp:lastPrinted>2015-07-06T08:20:31Z</cp:lastPrinted>
  <dcterms:modified xsi:type="dcterms:W3CDTF">2015-07-06T08:20:35Z</dcterms:modified>
  <cp:revision>47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